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78160"/>
            <a:ext cx="9144000" cy="271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278160"/>
            <a:ext cx="9144000" cy="272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E4D1-7495-4354-8561-B41DF74234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47680">
              <a:spcBef>
                <a:spcPts val="499"/>
              </a:spcBef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422360" indent="-16812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2B19-669E-4728-BE47-82EDDA0BE912}" type="slidenum">
              <a:rPr b="0" lang="en-US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1415880"/>
            <a:ext cx="7840800" cy="5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487600"/>
            <a:ext cx="9144000" cy="3206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096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603360" indent="253800" algn="ctr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919080" indent="335160" algn="ctr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203480" indent="403200" algn="ctr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5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6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5984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476600" y="5970600"/>
            <a:ext cx="45626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y Nam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signation, Organiz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401760"/>
            <a:ext cx="823608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lide Titl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-342720">
              <a:spcBef>
                <a:spcPts val="451"/>
              </a:spcBef>
              <a:buClr>
                <a:srgbClr val="4d4d4d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304920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1521000" indent="-266760">
              <a:spcBef>
                <a:spcPts val="3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-190440">
              <a:spcBef>
                <a:spcPts val="2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Hyperlink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ding Slid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presentation template was designed by Abhay R of Cone Trees, a User Research &amp; Design consultancy and resourc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You are more than welcome to use and modify this template for your own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ast Sli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case you like the template, let others as well as me know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  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isit m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netrees.com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Email me at : hello/at/conetrees/dot/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30:44Z</dcterms:created>
  <dc:creator>Abhay R</dc:creator>
  <dc:description>If you are looking for an elegant powerpoint template, here's one free of cost. In case you like it, let others as well as me know</dc:description>
  <cp:keywords>Clean Elegant Corporate Powerpoint Template Free</cp:keywords>
  <dc:language>en-US</dc:language>
  <cp:lastModifiedBy>abhay.rautela</cp:lastModifiedBy>
  <dcterms:modified xsi:type="dcterms:W3CDTF">2008-10-11T16:08:49Z</dcterms:modified>
  <cp:revision>12</cp:revision>
  <dc:subject/>
  <dc:title>Clean &amp; Elegant Corporate Powerpoint Template</dc:title>
</cp:coreProperties>
</file>